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70BD-53C7-4544-B361-6ADFBEFBE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68AE-FF92-4619-A80A-2A749DC2B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AE10-27D1-42AE-83B7-CD9D15186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427C-AB34-4650-B560-393DC9F56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CC0B-A500-4B3B-9ECD-CFA3811AB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7555-34B3-439E-ADDA-F830114CF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AB9C-0410-4825-8FB8-8C8EF4CF6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CCD5-A08A-48DA-AABE-7D7D80251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65F0-60F9-4D65-8C62-F5EB0C179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BC8E-A69E-43C5-AA6D-049684E9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B52D-F2AE-46EA-B2C1-B69B6088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7F8C-7411-41A9-9DFD-89D7E2B0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2DD2B-A616-454E-B08F-18CBAEBCA4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Verdana"/>
              </a:rPr>
              <a:t>Loss Reserve</a:t>
            </a:r>
            <a:br>
              <a:rPr sz="3600"/>
            </a:br>
            <a:r>
              <a:rPr b="1" lang="en-AU" sz="3600" spc="-1" strike="noStrike">
                <a:solidFill>
                  <a:srgbClr val="000000"/>
                </a:solidFill>
                <a:latin typeface="Verdana"/>
              </a:rPr>
              <a:t>Upgrades - A Pervasive Myth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505320"/>
            <a:ext cx="670536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debunk a critical loss reserving myth involving loss reserve upgrades that is pervasive in the insurance industry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41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Visit the abovementioned URL for a simple arithmetic proof of the above mentioned fa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Reading the following related paper may also prove usefu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i="1" lang="en-AU" sz="2400" spc="-1" strike="noStrike">
                <a:solidFill>
                  <a:srgbClr val="000000"/>
                </a:solidFill>
                <a:latin typeface="Verdana"/>
              </a:rPr>
              <a:t>Will Your Next Reserve Increase Be Your Last”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by Prof. Ben Zehnwirth, Dr Julie Sims and Mark Shapland, published in 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CONTINGENCIES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, the publication by the American Academy of Actuaries in the Jan/Feb 2004 issue on Page 40-44 (PDF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e Big Myth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12408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gular reserve upgrades means that the company is (and has been) under-reserved and a significant increase (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“a big hit”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 in reserves means no subsequent reserve increases will be requi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e Reality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162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understanding of the reserving process contradicts a very simple arithmetic truism. Repeat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total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reserve upgrades does not mean under-reserving. Indeed, the converse may be true. I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total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reserves are not increased annually then the company is likely to be under-reserved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4920" y="260280"/>
            <a:ext cx="88390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eserveincreases%20-%20part%202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2517480"/>
          </a:xfrm>
          <a:prstGeom prst="rect">
            <a:avLst/>
          </a:prstGeom>
          <a:ln w="0">
            <a:noFill/>
          </a:ln>
        </p:spPr>
      </p:pic>
      <p:pic>
        <p:nvPicPr>
          <p:cNvPr id="49" name="Reserveincreases%20-%20part%203" descr=""/>
          <p:cNvPicPr/>
          <p:nvPr/>
        </p:nvPicPr>
        <p:blipFill>
          <a:blip r:embed="rId2"/>
          <a:stretch/>
        </p:blipFill>
        <p:spPr>
          <a:xfrm>
            <a:off x="0" y="2971800"/>
            <a:ext cx="914400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Reserveincreases%20-%20part%204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868680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does this mean in terms of loss reserving each year? The following are simple arithmetic facts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Each year the company needs to increase its total reserve by </a:t>
            </a:r>
            <a:r>
              <a:rPr b="1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at least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 5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Each year the company needs to increase its premium (price) by </a:t>
            </a:r>
            <a:r>
              <a:rPr b="1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at least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 5%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The ultimates for prior accident years will remain consistent with each increase in </a:t>
            </a:r>
            <a:r>
              <a:rPr b="1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total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 reserves.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Ultimates increase by </a:t>
            </a:r>
            <a:r>
              <a:rPr b="1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at least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 5% from one accident year to the nex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The principal reason for these facts is that calendar year inflation projects both onto the accident years and development years- it also impacts all prior accident years.</a:t>
            </a:r>
            <a:br>
              <a:rPr sz="2400"/>
            </a:b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The increases in </a:t>
            </a:r>
            <a:r>
              <a:rPr b="0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total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reserves each year should not be regarded as an 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upgrade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. If my costs in running my business increase by 5% each year I should at least increase the price of my product by 5% to stay even. I do not regard this increase as an 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upgrade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. On the contrary, if </a:t>
            </a:r>
            <a:r>
              <a:rPr b="0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total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reserves are not increased by at least 5% each year the company will be under reserved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That the 5% increase applies to the premium and ultimates from year to year is obvious. That it applies to the </a:t>
            </a:r>
            <a:r>
              <a:rPr b="0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total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reserves (and still maintaining consistent prior accident year ultimates) may not be so obvious, to some.</a:t>
            </a:r>
            <a:br>
              <a:rPr sz="2400"/>
            </a:b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I have mode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ed long tail liabilities from all over the planet. I have measured total inflation (economic and social) in excess of 15% per year on average for 20 years for some portfolios. So we now know why many companies have failed!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3T03:11:05Z</dcterms:created>
  <dc:creator>Nikolai Volodin</dc:creator>
  <dc:description/>
  <dc:language>en-US</dc:language>
  <cp:lastModifiedBy>BenZ</cp:lastModifiedBy>
  <dcterms:modified xsi:type="dcterms:W3CDTF">2005-09-21T20:05:45Z</dcterms:modified>
  <cp:revision>3</cp:revision>
  <dc:subject/>
  <dc:title>Loss Reseverve Upgrages - A Pervasive Myth </dc:title>
</cp:coreProperties>
</file>